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5F2-EBC5-457F-B8AE-45E7F4D5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11E9-8AB0-4CFB-ABB9-418E5346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8EA-67E0-46E5-8FD1-ACF1BDB3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4CEF-11CA-4FFA-9F7F-366820FD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B7FF-D016-4D4B-AB37-42BBD815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3FEA-81E1-4A5B-B669-6F635AC2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4D0F-2EB0-4B42-8260-DB180CA6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B488-5E99-413B-96FF-D4DB44AC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6132-81EE-40C1-95A1-DCF53F25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22A9-3C18-41B9-8DBF-FC0C5DF0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6388-A836-482B-9117-9B2FDD4B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74B-CEE0-4106-A968-3D0CB16A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1BF7-3291-4CA7-B30C-5A00FDF9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88A2-DDAD-42F0-8D02-A7E17C91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97B0-D33D-4D0B-AE52-394E45C1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DE15-DA65-4D3F-9670-BD0F16FB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6AB6-7B6C-45F4-8793-BC54F29D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2559-AFB4-437F-9092-3C57EDA1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40D-A56C-4ED0-9A0E-71847BF1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2B5-9D1C-416F-9FFA-ACC223ED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0D6E-88E4-4F4E-B46B-CCA54021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A53-5A20-4170-8D2C-61F56BB5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29F-3717-48F4-BAEE-755AAF75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FC0-11C7-4AA6-946E-D09FC84E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251C-2B68-461E-B9F4-5DBA052035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DC3D-4953-4D0B-9EF3-66E2EDF9B4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Текстовая часть ПОС линейных объект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00240"/>
            <a:ext cx="8121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и оформления в соответствии с требованиями действующих стандартов текстовой части проекта организации строительства линейного объекта. Структура и содержание разделов текстовой части ПОС строго соответствует требованиям, изложенным в Постановлении Правительства РФ от 16 февраля 2008 г. № 87 "О составе разделов проектной документации и требованиях к их содержанию"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Текстовая часть ПОС включает в себя позиции, отраженные в упомянутом Постановлении Правительства РФ. Каждая позиция реализуется либо с помощью соответствующего программного модуля (при наличии возможности формализовать задачу и провести необходимые расчеты), либо в виде стандартизованных текстов, дающих возможность пользователю четко изложить вопрос и отразить специфику проектируемого объекта. Для некоторых наиболее сложных и неформализованных разделов пользователю предоставляются примеры их заполнения, заимствованные из уже разработанных и апробированных проектов организации строитель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Таким образом, данный программный модуль носит собирательный характер и предоставляет пользователю возможность отобрать, скомпоновать, привязать к конкретному объекту и оформить в виде законченного и оформленного документа текстовую часть проекта организации строительства проектируемого объ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60339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246320" y="988920"/>
            <a:ext cx="7324560" cy="495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5494320"/>
            <a:ext cx="81216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 Кроме того, пользователь может настроить способ заполнения текста раздела: вручную, с помощью программного модуля, из существующего документа по объект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87280" y="1158840"/>
            <a:ext cx="6832800" cy="42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бота с показателями по объект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89040" y="5494320"/>
            <a:ext cx="81216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режиме работы с показателями по объекту пользователь может просмотреть показатели работы программных модулей и изменить пользовательские показател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961920" y="947880"/>
            <a:ext cx="722016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76440" y="443376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119240" y="971640"/>
            <a:ext cx="706104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16040" y="411012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текстовую часть ПОС линейного объект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477800" y="963720"/>
            <a:ext cx="6207120" cy="296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8-03-15T16:01:58Z</dcterms:modified>
  <cp:revision>255</cp:revision>
  <dc:subject/>
  <dc:title>Слайд 1</dc:title>
</cp:coreProperties>
</file>